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18F8-EA7E-4E9E-901A-1D540429B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1B15-B1C7-4D49-A29E-825C4243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12E8-6256-4DB4-B701-8A22EC69F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8FFE-52C6-413C-A191-9EA3ED96A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44D5-6DF6-46FD-AE4B-D84813F5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E6B8-54C0-4560-A5E6-FCB45F74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23E6-4EE3-4E1A-BDBA-B29DEE49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64D2-A4F9-426F-A88E-B1897B35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18BA-41C7-4D50-9EDD-B0CB5CF4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0261-2977-4380-B724-03A569D4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1B53-6B55-4847-8FD0-96325E2B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3C6D-C5DA-4D0E-9341-FAFAEF56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F2C9-862B-4A57-BE41-E04E843C969C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4-06T04:51:35Z</dcterms:created>
  <dc:creator>Account Romeolynx</dc:creator>
  <dc:description/>
  <dc:language>en-US</dc:language>
  <cp:lastModifiedBy>Account Romeolynx</cp:lastModifiedBy>
  <dcterms:modified xsi:type="dcterms:W3CDTF">2025-11-14T07:55:34Z</dcterms:modified>
  <cp:revision>1</cp:revision>
  <dc:subject/>
  <dc:title/>
</cp:coreProperties>
</file>